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9A1A-8AB4-40EF-BE9E-73FAF5B5E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273C-A919-4704-B283-22A30BBC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DAF1-D127-48B0-A116-39B64BFB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D8A9-CDFD-48B0-8F39-42A78695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FEB7-74FB-4ABF-B458-57D2C58C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74E-0216-4991-9A19-FAA17F52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84B1-D3F5-4966-BF60-29FBE5A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266A-5998-4D14-8D10-2E0A52D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532-95E5-428D-BB66-817B1B34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A5DC-21F0-4CB6-83F7-84F7F65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4F0-282F-4AEE-AF6E-4E6A0DCA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CF11-C8EA-4854-9D46-7DC6A5EA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23D6-0AC7-414B-9496-4434F678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3AB-426C-4FE5-9093-A38AB0F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87F8-B414-4797-AFA7-6F585991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C84C-8E16-45F2-BB82-4D902D60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94F8-A6E4-4B8F-BFD3-C0EE3AA4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9B8AC-0A4B-4A91-B6AD-4C99D76F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56C4-52FD-43B2-9C0B-DC375D3C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062B-B3E8-4DC6-9952-77D9E67F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7B0F-3814-4FC0-A40F-359BDC9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368F-3E57-4405-AD1C-F8C85D6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F771-5BAF-4446-91C0-315EE6DB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F6AC-A986-48A0-AACF-D43A0DA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C70B-F919-4141-ABC0-D95198E113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3279-B790-4072-9D08-4882515D6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Notification and Discover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ation B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O – December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PWG Notification 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fication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olidate subscription attributes from various delive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Subscription and Notification schema for WBMM / P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late with existing notification / messaging protoc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pdate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le of Notification server (ser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ible printer-service-proxy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er MIB top 25 – commonly instrumented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reless event archite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WG Notifications Statu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P Notification Base spec, IPP GET, INDP and MailTo submitted to IET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P and MailTo rejected as push security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spec scrutinized for allowing push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sh methods with no SPAM pro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PS 1.2 will ship MAILTO and IND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I and IFX Server directed po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ed in Pro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IPP 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s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docu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 using IPP Base notification and IPP GET IETF drafts as reference (where applic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pending PWG working group reque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AP (with IETF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P (with IETF templ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MTF (CIM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 (with Microsoft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S (with Novell sche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MP (basis for many printer discovery applic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nP v1 SSDP and follow-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e Rendezvous / DNS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DDI “T Model” (for public print serv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SzPct val="1545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esn’t scale for device disco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gnment achieved between SLP, LDAP, SNMP  and PWG Semantic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NA registered LDAP schema (RFC Pend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 (Non-routed sub 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dezvous, SSDP, SLP, SN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AP, SLP, Active Directory, NDS, *SNMP, *DNSsd, *SSD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bal (Inter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Printer or Print Service T model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May not scale – no directory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urrent Capabilities Discovery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DDD – pointer to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W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SCP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service interface and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in practice to learn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antic Model Sub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y e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Best Practi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WG Discovery Best Practices working draf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, WBMM or IFX Implementer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rate Discovery Best Practices Guid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best practices on content for service / device adverti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datory, Recommended and Optional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informative guide for how to construct discovery queries / respo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order of use for discovery protocols within a domain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scovery – PWG Things to D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call for interest on PWG-ANN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WG Working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Practices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Server best practices or conformance gu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t by extracting from PSI discovery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ology Evaluation and PWG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experience and actual market n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ite client con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Discovery Technology Directi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ET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Conf (formerly XMLCon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MPCon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DDI Pri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lling, cost estima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ide of our dom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s of prin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d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ick co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PX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nP follow-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Metho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Practices and Templates NOT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ing Methods and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PP (Instant Messag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3C (??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asis WSD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nP 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otification Domai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– S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S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23:44:35Z</dcterms:created>
  <dc:creator>Harry Lewis</dc:creator>
  <dc:description/>
  <dc:language>en-US</dc:language>
  <cp:lastModifiedBy>Harry Lewis</cp:lastModifiedBy>
  <dcterms:modified xsi:type="dcterms:W3CDTF">2003-12-05T17:56:34Z</dcterms:modified>
  <cp:revision>181</cp:revision>
  <dc:subject/>
  <dc:title>PWG – January 2003</dc:title>
</cp:coreProperties>
</file>