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282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m Hastings, Xerox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3CB3D40B-E3EB-4484-AC24-A08AB72FB0FB}" type="datetime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4BE2EF87-C2B3-4184-AFB7-8AD26D5B435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SO 10175 Document Printing Application (DP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and 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24240" y="5581800"/>
            <a:ext cx="2495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erox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anagement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57400" y="2057400"/>
            <a:ext cx="77868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anagement operatio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57400" y="1957320"/>
            <a:ext cx="77868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Job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bs contain one or more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y to entire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0 job contro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job-name, print-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9 job stat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: current-job-state, ignored-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ocument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y to on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 document can have different value in a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3 document control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ocument-format, sides, i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 document status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ocument-state, copies-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Printer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981080"/>
            <a:ext cx="7848720" cy="47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ogical and physical print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5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media-supported, document-formats-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ready attributes - no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media-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printer-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xtension to multi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b has source and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ultiple destination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for PCs and simpl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et extend to high e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e idea of jobs containing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 each basic job has only one destina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ably want to allow multiple phone numbers on a single 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reating multi-level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er does it transparently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 specifies scan source, print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 transforms one-level job into two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ob contains one scan job and one prin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submits multi-level job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create subjob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ed to define scanner and FA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scanner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FA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 new DPA objec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print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read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676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people with MF experti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define new scanner/FAX DPA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jobs for multi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 ISO DPA WG to extend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DPA job, scanner/FAX device attributes equivalent to new MF MIB ob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urrent Implementations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mmary of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More Information on ISO DP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981080"/>
            <a:ext cx="784872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 e-mail to hastings@cp10.es.xerox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ne: (310) 333-64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be added to dpa@woden.eng.sun.com D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nd request to: rherriot@woden.eng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PA final text and Part 3 draf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 /pub/snmpmib/dp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tatus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inal Text, Part 1 and 2 of ISO 10175, May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t 3 draft, based on POSIX 138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 /pub/snmpmib/dp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OSIX 1887.4 System Administration Part 4: Print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ft 8, voted October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-boi.external.hp.com /pub/snmpmib/posix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verview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-server protocol for pr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b sub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of jobs, print systems and pri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bject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7 operations on 19 types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600 attributes of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lternative packaging of DPA “box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2600" y="1676520"/>
            <a:ext cx="6638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Fully networked DPA pri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85680" y="1600200"/>
            <a:ext cx="5884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Implementations of ISO D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zel Delivery, Dazel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ing Systems Management (PSM),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xchange, Digital Equipment Corp, Sun Microsystems, Xerox Co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are Distributed Print Services (NDPS), No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bject types (cla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57400" y="1981080"/>
            <a:ext cx="77868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User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57400" y="1981080"/>
            <a:ext cx="77868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Hastings</dc:creator>
  <dc:description>Presentation to MFPA IOC Sept 28-29, 1995 - different backgrounds</dc:description>
  <dc:language>en-US</dc:language>
  <cp:lastModifiedBy>ES Xerox</cp:lastModifiedBy>
  <cp:revision>0</cp:revision>
  <dc:subject/>
  <dc:title>ISO DPA and extension to multifunction</dc:title>
</cp:coreProperties>
</file>